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0FD-6CD2-48BA-80C5-9895B9D8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D7A-6B4D-4F08-ADF4-09AF43A7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2A97-6AA7-4C2E-8087-9F65A1E9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C4EA-A255-4DAE-9133-B5AD9145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4A4F-568B-49FB-B9AB-C662EC8F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E9F-D7F1-41EF-9EDF-6B36DFE3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08F-6F77-4CDF-AB98-88C77BC9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A2B-9CF9-4D15-AA81-6D682398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1A8-75EB-41B9-9853-908535D1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BBCB-BB1F-496B-B74B-6E6FCCAC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54C-9B9C-4ACF-9C0B-C20339C6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39D-AE70-4C8D-B92F-9E270E01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363B-DA85-453F-A8B7-DE52ECC5E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22solid gre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rpose of Advisory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MS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AP Career Portfol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e Road to Financial Maturit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Lessons in Personal Fi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This year we will be looking at the steps to becoming financially mature, how to be responsible with your money, and how to build weal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sei_enroute_7by lan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1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s 3-6 (Into to personal financ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2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s 7-10 (saving &amp; budgetin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3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s 11-14 (banking &amp; consumeris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4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s 15-18 (credit &amp; deb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5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llege (student loans &amp; rentin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6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ulthood (investing &amp; retiremen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7: Road to Financial Maturity, Giv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2:44:50Z</dcterms:created>
  <dc:creator>admin</dc:creator>
  <dc:description/>
  <dc:language>en-US</dc:language>
  <cp:lastModifiedBy>ASD</cp:lastModifiedBy>
  <dcterms:modified xsi:type="dcterms:W3CDTF">2011-06-06T17:02:57Z</dcterms:modified>
  <cp:revision>3</cp:revision>
  <dc:subject/>
  <dc:title>Junior Class Advisory</dc:title>
</cp:coreProperties>
</file>